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563-BB6C-4902-891D-659CA04D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593-DF46-440B-915B-F26D4EED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E2B-F019-4B6E-A1A0-7580E908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8537-9B3A-43F5-8C1D-83AEA2BF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9BBE-19C1-418B-BF41-7C7A6769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A8F2-F45F-4A9E-B8DF-E7EB3F17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C92A-9304-4A26-9C91-2413939A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405E-ADB2-49EF-B788-F36F3479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47C5-D3C6-4F0E-AEF6-99A20F59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E9A2-B00C-4FAA-B5D3-CC28E336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E813-5665-4465-A0E2-047A83C0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20F-B120-4F2B-9134-50D3DE20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AA63-E061-458F-9603-8EA3D9A5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86F0-74E9-4FF8-8A81-4802BC52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88D7-4C68-4BA5-86B2-41D0F121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CC18-11C6-4786-AF3F-361F9E48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7B14-5A1C-4927-9382-D3E482B8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90BE1-0631-47D3-8861-280D75C6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57502-EA37-4BE1-94C6-20B73C86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BE229-6717-4854-B7F4-E47BD9B9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4B384-C5E4-4824-9394-84B12F1A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16A11-47DA-461B-992C-6921D7AE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729E-1047-4164-BBDF-AF2E05AD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A2FBC-5F68-4387-B201-4E2684EA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5CA60-66B6-499E-88AE-837AC2DF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C66BF-D419-4C53-9928-777CB18A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43B3-8644-4B0B-ABF2-BFCDD4C5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D507E-B892-4E00-9B38-E519A07C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4063B-E392-4CC0-9206-193209DE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67BF5-443B-4CC9-BE0B-DA2AB288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1DBCD-4649-4B4B-9472-27200101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7B32A-E5E7-46BB-B36A-9BFBBC55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DF30D-574C-4B0D-9D55-7B28027B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6EF-CB7F-420C-A07B-E56E613F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ED39A-55E3-483C-B549-7CD5125F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91510-C50F-4156-89D2-E47A2B7A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1FF14-5A01-41B2-877E-FA0BE54D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25C13-38DD-4C29-8CA5-5D4B4CD3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12E09-1506-4E4F-8CC3-25FE0857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3A09E-2062-4F01-8757-2B53A713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1F686-3D47-4A00-9020-E533B3B0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9A147-629F-4661-827E-0E87D269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9EF9F-B16C-42B4-BDB3-1347675F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610-90C9-4B33-B014-F8DDC332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D8B-D52E-4162-8BFF-FD5EEB8E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FD66-7DE6-43D3-8D37-EE66AA48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38C-380F-4A04-965A-F112AE55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B2C-3048-49DC-8208-31D82382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D70C-6FD2-4771-B8B0-B140EDC19F08}" type="datetime2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B122-67B2-4B3B-A9F5-45FFF3C4CE1B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CD0A-FD95-4946-846C-850F0F4F6963}" type="datetime2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8366-1F53-47E1-9341-85A12BA7BEFE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0B8B-1434-446F-83BB-10DACEB11275}" type="datetime2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62D3-4F44-4B85-89D8-CEBF2CF5C5C8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5ABE-F10A-4D2F-8BC5-8E596296B708}" type="datetime2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8DF3-F4F3-48B1-9A81-23E7724B1D2B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-6480" y="822240"/>
            <a:ext cx="5712120" cy="10368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95C1-F520-4F2C-B501-FF83401A2E1C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1041480" y="2270160"/>
          <a:ext cx="8042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1480" y="2270160"/>
                    <a:ext cx="8042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Box 9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Rectangle 10" descr=""/>
          <p:cNvPicPr/>
          <p:nvPr/>
        </p:nvPicPr>
        <p:blipFill>
          <a:blip r:embed="rId4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3AF4-87CD-49D0-8511-566CD014CAC5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Learning Inten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uccess Criter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5057640" y="3992400"/>
            <a:ext cx="38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2.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Solving expressions showing workin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77760" y="30052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explain the process of working out expressions by substitution meth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5057640" y="3005280"/>
            <a:ext cx="40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Understand process of substitu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Rectangle 14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5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4456-A1EF-46F3-BA06-6EF5E3D55734}" type="datetime2">
              <a:rPr b="0" lang="en-GB" sz="1200" spc="-1" strike="noStrike">
                <a:solidFill>
                  <a:srgbClr val="045c75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Oval 2"/>
          <p:cNvSpPr/>
          <p:nvPr/>
        </p:nvSpPr>
        <p:spPr>
          <a:xfrm>
            <a:off x="1434960" y="2095560"/>
            <a:ext cx="685800" cy="7621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1549440" y="20829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357280" y="2197080"/>
            <a:ext cx="61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f a = 2 and b = 14 evalu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2203560" y="38178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067200" y="306864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70c0"/>
                </a:solidFill>
                <a:latin typeface="Comic Sans MS"/>
              </a:rPr>
              <a:t>a + b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211560" y="3787920"/>
            <a:ext cx="216000" cy="50472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3067200" y="414828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3571920" y="414828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AutoShape 10"/>
          <p:cNvSpPr/>
          <p:nvPr/>
        </p:nvSpPr>
        <p:spPr>
          <a:xfrm>
            <a:off x="4219560" y="3787920"/>
            <a:ext cx="216000" cy="50472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4075200" y="414828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omic Sans MS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2419200" y="414828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2419200" y="5013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3067200" y="501336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omic Sans MS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5740560" y="3835440"/>
            <a:ext cx="190476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ub in a=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740560" y="4444920"/>
            <a:ext cx="204444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ub in b=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fceff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Rectangle 24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5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F52B-965C-49AF-8798-3816049C9B80}" type="datetime2">
              <a:rPr b="0" lang="en-GB" sz="1200" spc="-1" strike="noStrike">
                <a:solidFill>
                  <a:srgbClr val="045c75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2166840" y="208296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f a = 3 and b = -9 evalu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568520" y="36655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803240" y="292104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70c0"/>
                </a:solidFill>
                <a:latin typeface="Comic Sans MS"/>
              </a:rPr>
              <a:t>a - b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013280" y="4051440"/>
            <a:ext cx="504180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member “- -” replace by “+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1727280" y="391176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2260440" y="391176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2793960" y="3911760"/>
            <a:ext cx="130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(-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1041480" y="39117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1041480" y="47116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1650960" y="4711680"/>
            <a:ext cx="184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omic Sans MS"/>
              </a:rPr>
              <a:t>3 +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Oval 18"/>
          <p:cNvSpPr/>
          <p:nvPr/>
        </p:nvSpPr>
        <p:spPr>
          <a:xfrm>
            <a:off x="1104840" y="2031840"/>
            <a:ext cx="685800" cy="762120"/>
          </a:xfrm>
          <a:prstGeom prst="ellipse">
            <a:avLst/>
          </a:prstGeom>
          <a:solidFill>
            <a:srgbClr val="99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1181160" y="203184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fceff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1066680" y="544824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1676520" y="5448240"/>
            <a:ext cx="184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Rectangle 22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23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B0B5-541A-4946-B9F6-29CDF77A7494}" type="datetime2">
              <a:rPr b="0" lang="en-GB" sz="1200" spc="-1" strike="noStrike">
                <a:solidFill>
                  <a:srgbClr val="045c75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055520" y="186228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f a = 5 and b = 6 evalu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900000" y="29242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a + 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900000" y="407664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a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900000" y="522936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3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5364000" y="29242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b - 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5364000" y="407664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4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5364000" y="522936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3a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3492360" y="2924280"/>
            <a:ext cx="12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3492360" y="4076640"/>
            <a:ext cx="12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3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419640" y="5229360"/>
            <a:ext cx="121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7885080" y="2924280"/>
            <a:ext cx="112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7885080" y="4076640"/>
            <a:ext cx="12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2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7885080" y="5229360"/>
            <a:ext cx="12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9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22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fceff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Rectangle 21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64" name="TextBox 22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46DB-D0CD-477E-978E-0DB76C2D9884}" type="datetime2">
              <a:rPr b="0" lang="en-GB" sz="1200" spc="-1" strike="noStrike">
                <a:solidFill>
                  <a:srgbClr val="045c75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1324080" y="4992840"/>
            <a:ext cx="6315120" cy="122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457280" y="1963800"/>
            <a:ext cx="6058080" cy="2958480"/>
          </a:xfrm>
          <a:prstGeom prst="rect">
            <a:avLst/>
          </a:prstGeom>
          <a:solidFill>
            <a:srgbClr val="4fceff"/>
          </a:solidFill>
          <a:ln w="76320">
            <a:solidFill>
              <a:srgbClr val="7e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Now complet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page 28    Ex 5.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Q1 –   Q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Page 30   Investig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fceff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9" name="Rectangle 13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14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123840" y="1447920"/>
            <a:ext cx="26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etters and Numb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1657440" y="448632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8:17:26Z</dcterms:created>
  <dc:creator>Bernie Lafferty</dc:creator>
  <dc:description/>
  <dc:language>en-US</dc:language>
  <cp:lastModifiedBy>Caroline</cp:lastModifiedBy>
  <dcterms:modified xsi:type="dcterms:W3CDTF">2009-05-25T20:34:40Z</dcterms:modified>
  <cp:revision>73</cp:revision>
  <dc:subject/>
  <dc:title>Slide 1</dc:title>
</cp:coreProperties>
</file>